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41467"/>
        <c:axId val="60027427"/>
      </c:barChart>
      <c:catAx>
        <c:axId val="57241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27427"/>
        <c:crosses val="autoZero"/>
        <c:auto val="1"/>
        <c:lblAlgn val="ctr"/>
        <c:lblOffset val="100"/>
        <c:noMultiLvlLbl val="0"/>
      </c:catAx>
      <c:valAx>
        <c:axId val="60027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41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130-D4E6-4CAE-9225-73E68562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001-436F-4B7E-BA8F-280393BB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71C-C016-4FA6-AEF2-A4524F89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583-457A-4D67-AEC8-9C03BA38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B03-741F-4069-8883-4D519FCD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478-28A4-4B5D-AA7F-A088CE4F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D7C-6C0B-482A-A5D7-9EEEBEFE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EAF-94A2-4310-993D-825E1AAD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7DA-6E85-4E08-91A4-AF4C72E4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FBC-7BEA-46FA-902D-9F740738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20D-548C-44B0-9C6F-3617758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B30-ACF0-42CE-AF35-8048F2B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98AA4-54AF-46CB-AAA6-100D4CABAA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