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50034"/>
        <c:axId val="95262393"/>
      </c:barChart>
      <c:catAx>
        <c:axId val="79150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2393"/>
        <c:crosses val="autoZero"/>
        <c:auto val="1"/>
        <c:lblAlgn val="ctr"/>
        <c:lblOffset val="100"/>
        <c:noMultiLvlLbl val="0"/>
      </c:catAx>
      <c:valAx>
        <c:axId val="95262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50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977-A772-4D4C-94AA-2BAB67BD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6C1-9000-405F-9D7E-0159D9AE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A26-16C3-430A-BB62-4684E04B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734-0C1E-4E6A-B3F8-C6E6E10C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F07-CE9D-4E13-8F9C-D7B7FC3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596-8E1D-4F6E-BBEF-A94C3CB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9C9-40A4-43EF-8139-EAAA46D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6BA-7798-484A-A675-5127066D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6EE-4230-49D6-BBAF-77C805E2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8B1-316F-4D8C-8550-63C6965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225-CFB1-4E30-8BDC-B93317C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AE6-F8BC-4DC2-B080-828E960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C9186-8B7A-4D36-88FB-0B10BD4A63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