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58872"/>
        <c:axId val="38025730"/>
      </c:barChart>
      <c:catAx>
        <c:axId val="96858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25730"/>
        <c:crosses val="autoZero"/>
        <c:auto val="1"/>
        <c:lblAlgn val="ctr"/>
        <c:lblOffset val="100"/>
        <c:noMultiLvlLbl val="0"/>
      </c:catAx>
      <c:valAx>
        <c:axId val="38025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58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81D-4E2D-4416-AA04-D64E08A8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B62-B741-42EC-AADB-38B236AE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EFF-7630-4A72-97D8-0972D8A0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D64-3A68-4F66-8667-68AF3D7D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E94-9256-4E74-931B-805CD3C3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F96-2699-4992-BD7D-3F74CE1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16C-73D5-45BF-B3A5-2909CC09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BA3-845B-4409-B68A-1980BE74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383-B101-4219-ADFE-BD931CE2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B94-5CA1-42C5-A4D8-A0236C10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F2F-0E3D-46BA-AF75-96BD9C78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1F9-03C0-4E80-8227-4299E6B6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86610-B215-49B4-A123-8AA771BCD0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