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998384"/>
        <c:axId val="22287532"/>
      </c:barChart>
      <c:catAx>
        <c:axId val="559983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87532"/>
        <c:crosses val="autoZero"/>
        <c:auto val="1"/>
        <c:lblAlgn val="ctr"/>
        <c:lblOffset val="100"/>
        <c:noMultiLvlLbl val="0"/>
      </c:catAx>
      <c:valAx>
        <c:axId val="222875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983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5C70-B295-4D0C-8473-5614A441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06E4-75B4-4B69-8859-78867E0E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4A6D-94A6-4152-A74B-3FD07DBE0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D92D-8DBF-40EF-A877-26B69DE7D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48B0-D7B4-4BAF-8AB6-A82E22C0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4DB6-7014-4CA8-96D9-ACBDC118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D1CA-2C56-49F5-9C5A-1FC4AF46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CF40-1A1F-437D-AF27-241784E3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33DB-583D-488E-8A08-6027D17A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48DE-6AD2-4B52-AEC8-FF1F1C99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EA02-22FD-417A-B5BA-EC3C372F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C660-3DC7-44BC-8DAC-9CD4A323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F0785-9B42-49B1-ACAA-B3BDD2D1A0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