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40339"/>
        <c:axId val="67019469"/>
      </c:barChart>
      <c:catAx>
        <c:axId val="32040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19469"/>
        <c:crosses val="autoZero"/>
        <c:auto val="1"/>
        <c:lblAlgn val="ctr"/>
        <c:lblOffset val="100"/>
        <c:noMultiLvlLbl val="0"/>
      </c:catAx>
      <c:valAx>
        <c:axId val="670194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40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B2E5-9571-4294-BD23-6B5D69FB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C427-3414-4424-93BC-B0F037C7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90EA-5796-43EF-AA7E-8E38ACD4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F00B-656D-4EED-840F-0B185205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2BD0-8234-41D7-8FDE-F88E92D4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7121-72C4-4800-82BB-59CA0F9E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4437-4CD6-4814-8D63-EADB1240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1F64-26EB-4598-97EC-9DF50306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BAEF-D430-4C9B-A5B8-93D62883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16D8-5415-4489-A3AE-CC4FDDB2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273-BCBC-41BC-A63F-98DD15A3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C6A6-0625-41B5-A095-D965C325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B19C0-E211-4DC7-8441-A7AD121379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