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26024"/>
        <c:axId val="32169227"/>
      </c:barChart>
      <c:catAx>
        <c:axId val="23626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69227"/>
        <c:crosses val="autoZero"/>
        <c:auto val="1"/>
        <c:lblAlgn val="ctr"/>
        <c:lblOffset val="100"/>
        <c:noMultiLvlLbl val="0"/>
      </c:catAx>
      <c:valAx>
        <c:axId val="321692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26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8EF-A6D5-475F-AF58-553C7155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702-12B1-448C-9903-D9576B73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BA2-9B44-4413-89A9-7BB59B9A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EB5-EECD-40A5-80C0-CB66059B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C11-CD1C-466C-B47D-83D3C5A8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F73-AE28-4654-8D59-885AD4D3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D41-59B6-403A-B6DE-03681104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6CA-71CC-456A-956C-714F9358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671-BDD7-472A-9398-F578B000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442-38B2-4E5B-808C-AD2DB8E9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0322-6706-4863-A5F6-E4E2777F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C08-BBF7-43D6-95B3-5DAEDA1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D5CE7-651C-458C-9DCA-03478F1281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