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326441"/>
        <c:axId val="15092763"/>
      </c:barChart>
      <c:catAx>
        <c:axId val="48326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92763"/>
        <c:crosses val="autoZero"/>
        <c:auto val="1"/>
        <c:lblAlgn val="ctr"/>
        <c:lblOffset val="100"/>
        <c:noMultiLvlLbl val="0"/>
      </c:catAx>
      <c:valAx>
        <c:axId val="15092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26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63B-0520-41D2-8654-5D55997FD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8648-6D4F-4F80-86F0-B1AA3446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F62-8C7A-4123-A634-5F1769C3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EA5-9591-49D9-81B8-55AC5D72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1BF4-E295-4FD9-95A5-45AE338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1087-8C6C-4880-A0D2-62974C08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7D5-8BAD-46F9-A1A0-A9E9A54E0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299-85B6-4C41-A271-703D3DE5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489-6915-4B14-A116-30FF6266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30E-5B05-4709-AE80-D5A5ECDE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F18-AA33-4EBC-9A36-DBA5DEC4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CBD9-F15C-44E3-B9C3-A623CDFA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60515-FD0D-4CA5-BE57-BCB655301B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