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505118"/>
        <c:axId val="16798066"/>
      </c:barChart>
      <c:catAx>
        <c:axId val="615051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98066"/>
        <c:crosses val="autoZero"/>
        <c:auto val="1"/>
        <c:lblAlgn val="ctr"/>
        <c:lblOffset val="100"/>
        <c:noMultiLvlLbl val="0"/>
      </c:catAx>
      <c:valAx>
        <c:axId val="16798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051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0AB-6316-49CE-BAA6-28988FA2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3E14-5AC6-4CCE-BD94-43D624A3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0685-0DA7-4023-8609-6044C801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E19-4D92-48C5-91C2-42407C68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4983-5AEB-4117-82C2-FE346B09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E65-AA04-4B51-9A9B-98F64DE1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3E7A-6904-43CC-B980-ECAC8809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1CB-DD77-40CC-9EEF-AD863C4B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8FA-818C-4F2D-9175-F019246D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7DC-9A9C-4CB5-926C-79CAF54E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0D6-7F41-4A7D-999D-4C0E5F7C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7DE3-1C95-4192-AB0D-C095436D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0EC01-AA6B-47BF-AF14-5C4D2277F1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