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24482"/>
        <c:axId val="8922120"/>
      </c:barChart>
      <c:catAx>
        <c:axId val="13924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2120"/>
        <c:crosses val="autoZero"/>
        <c:auto val="1"/>
        <c:lblAlgn val="ctr"/>
        <c:lblOffset val="100"/>
        <c:noMultiLvlLbl val="0"/>
      </c:catAx>
      <c:valAx>
        <c:axId val="8922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4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CC4-F490-476B-86D8-C9A6E972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EFB-BEFD-4244-BD82-0CFFDAD3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1B3-1CC5-4911-B94C-ACEA544A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385-27DB-4DE7-A4ED-EBE9681A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415-345C-4958-A045-152BF5FB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5B2-CCEB-4A68-9DEF-5D7FC501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1B6-2C36-4BA4-8145-37BB5A83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BB3-F312-499B-A033-530E9476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387-5C2C-4B9E-A9FF-0B1B2C9B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961-D6BA-4E37-8C0B-8881252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044-F240-46AB-80EE-B863E2BA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087-FC34-4408-81FC-EE8831C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BC3BA-DF83-41AB-8EE1-6A1393CE26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