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03126"/>
        <c:axId val="67595779"/>
      </c:barChart>
      <c:catAx>
        <c:axId val="58203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95779"/>
        <c:crosses val="autoZero"/>
        <c:auto val="1"/>
        <c:lblAlgn val="ctr"/>
        <c:lblOffset val="100"/>
        <c:noMultiLvlLbl val="0"/>
      </c:catAx>
      <c:valAx>
        <c:axId val="67595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03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3A3-74A8-45F1-8DAA-76780C74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EAB-2525-4037-A0F0-AF623072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51B-72F5-46F7-AA85-4B6A1C52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E46-510A-4B7F-AACA-C64BA7B3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3E3-943D-4E58-8E48-5C2CFA51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004-6C9E-419E-B9E3-3F8DA12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AC9-1944-47D7-98AF-0DD69552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1F3-1BC0-4CED-8322-E50C8A5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934-A9B0-41AE-8389-647CB037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87F-F9BC-4CE4-91A4-C3AF0AF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1AA-CD24-4225-99D5-B83AC27E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5CA-3ACF-40CA-BF43-7C9B2755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E2CDB-522B-4F04-AEC8-797BD5356E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