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747718"/>
        <c:axId val="45154835"/>
      </c:barChart>
      <c:catAx>
        <c:axId val="647477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154835"/>
        <c:crosses val="autoZero"/>
        <c:auto val="1"/>
        <c:lblAlgn val="ctr"/>
        <c:lblOffset val="100"/>
        <c:noMultiLvlLbl val="0"/>
      </c:catAx>
      <c:valAx>
        <c:axId val="451548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77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9EBA-9655-4B8B-8226-DF572EF1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53FF-C84F-48C1-B915-F19D8E2B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3603-EF3B-494D-8A91-098D5AFE4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2B5F-5F40-473A-BA9C-AAA7780F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E76-0840-47EE-B330-6CC2846A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5A43-1E87-418D-909E-5AA14C8D1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D81E4-E010-4592-B55D-F6DB8ECD5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DBE1-C619-4D82-9B18-5FA024F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BA23-03BE-486F-82F8-140178B4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AD0C-9E10-4783-8E4A-3915DEEC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E4FF-C6BB-4F0D-9CA4-E13AE9B0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3375-19BB-4E28-AB48-AB3A2A3D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0A8339-0AAC-4B99-80CF-79815C66FF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