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58204"/>
        <c:axId val="83756873"/>
      </c:barChart>
      <c:catAx>
        <c:axId val="74958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6873"/>
        <c:crosses val="autoZero"/>
        <c:auto val="1"/>
        <c:lblAlgn val="ctr"/>
        <c:lblOffset val="100"/>
        <c:noMultiLvlLbl val="0"/>
      </c:catAx>
      <c:valAx>
        <c:axId val="83756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58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2CB-CFC7-4757-A109-C45434C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AD5-0ED9-49BA-BBD1-6FD4DFB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961-B76F-4C60-A354-DBB4331F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434-8774-4A83-A56B-F39069E1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AD2-4672-4866-A2E5-3CE48CA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5E9-FAB8-49BF-8D03-E9AFE06E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DAD-E2B9-482A-B78A-37C1C45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5C5-B962-440E-B129-3C8D7531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F4-214F-4FCE-89FC-FA8EA9BB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805-2E6F-43F3-95AA-5027909C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7B6-BC29-4C95-88D4-79428A7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911-F6FC-4B78-AD80-5480ECD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FB192-04A1-4544-A541-51CE7AF33F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