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794711"/>
        <c:axId val="10298886"/>
      </c:barChart>
      <c:catAx>
        <c:axId val="14794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98886"/>
        <c:crosses val="autoZero"/>
        <c:auto val="1"/>
        <c:lblAlgn val="ctr"/>
        <c:lblOffset val="100"/>
        <c:noMultiLvlLbl val="0"/>
      </c:catAx>
      <c:valAx>
        <c:axId val="10298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94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408-737B-4278-A351-EB6AC0ED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049-3E7C-46E7-B781-8A844EA0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78AC-0928-401A-855A-ABEFDC57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7BC-2AB3-4605-8C5D-AAC933A4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694-8D06-48B0-AD0C-25A198B5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7B8-FBE3-4030-9675-7A195196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657-5FBC-4968-B1DB-F5613534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168A-B58D-47CD-8C3D-E508BDF1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AAEC-ECD7-4C3D-BC47-F2AC215E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AF2A-50C1-493B-8AEA-AB20A26C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BCD4-101B-4E9D-B198-468405EE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B80-282F-4392-ABA4-DF0A1647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655EB-D6DB-4F2B-B27A-CD4DA6AD89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