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47516"/>
        <c:axId val="52750400"/>
      </c:barChart>
      <c:catAx>
        <c:axId val="46247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50400"/>
        <c:crosses val="autoZero"/>
        <c:auto val="1"/>
        <c:lblAlgn val="ctr"/>
        <c:lblOffset val="100"/>
        <c:noMultiLvlLbl val="0"/>
      </c:catAx>
      <c:valAx>
        <c:axId val="52750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47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E17-9CE9-49BB-B7B1-43D64BDE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064-666F-45EA-83B5-A7DF5266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0AD-E0E0-49AE-882C-5F6B09B2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E01-C056-46FA-B7D1-9529F0F0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E76-16B3-46A3-89E3-ED13545F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183-2ADC-43BF-BF5F-940FAA2C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36E-AD87-40BC-9749-267C41A3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ACE-7D4D-48A5-9B20-443412CF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C9A-84CC-44B2-8A9E-07B6F708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D48-B5E9-4A4B-9BF9-9ACA89C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E41-803B-49AA-9F62-CA620AD7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121-9265-48B5-97A9-CE5404ED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5083F-BE1D-4D88-9DAA-87C5A01226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