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59158"/>
        <c:axId val="30118614"/>
      </c:barChart>
      <c:catAx>
        <c:axId val="35559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18614"/>
        <c:crosses val="autoZero"/>
        <c:auto val="1"/>
        <c:lblAlgn val="ctr"/>
        <c:lblOffset val="100"/>
        <c:noMultiLvlLbl val="0"/>
      </c:catAx>
      <c:valAx>
        <c:axId val="30118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59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3D2-5B76-4B2C-8300-D21156CC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B3F-0F05-4E93-9F0E-2B38D79D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327-173F-4A44-892F-609968D3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5A9-0ABA-4C2D-AD83-9BB337A4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B7C-BFA3-47AD-9C47-DE7CF1D2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8CC-CF60-462A-93A5-CA314161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BD4-0119-42D2-81B7-3266B98F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5F3-E057-4883-92C8-9D61131B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FCA-6383-4A52-9D9D-557C051C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629-28B4-4270-9CB7-9DC3E67F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6DE-E48D-442B-BCAA-21F9F963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895-4529-4C9B-8069-36284598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412D5-0591-4FE7-8CF6-A6BDF2D502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