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13489"/>
        <c:axId val="20535924"/>
      </c:barChart>
      <c:catAx>
        <c:axId val="87713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35924"/>
        <c:crosses val="autoZero"/>
        <c:auto val="1"/>
        <c:lblAlgn val="ctr"/>
        <c:lblOffset val="100"/>
        <c:noMultiLvlLbl val="0"/>
      </c:catAx>
      <c:valAx>
        <c:axId val="20535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13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25E-778B-4A12-8777-A98D7484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0E3-CCA2-4FD0-890C-FE608950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EFD-7A8C-43E5-8604-FAFD99EA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DC5-A1D9-4482-940B-370CE6B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AC1-05A8-4C3D-B56A-C3405965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F6F-AB19-4F6E-9A31-AA5495EB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441-143C-47BA-9F4B-AE1A1BC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7B8-8D44-4616-BB02-997CB855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669-C33F-4457-A670-9D18C753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14A-DE1A-49F8-835F-35B40FB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541-DC28-4B5E-AFDB-7CB2218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4E7-4944-4EA8-AAAA-1A0FD18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25D0-3137-4451-963F-56EB6AA09E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