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95187"/>
        <c:axId val="17513032"/>
      </c:barChart>
      <c:catAx>
        <c:axId val="59095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13032"/>
        <c:crosses val="autoZero"/>
        <c:auto val="1"/>
        <c:lblAlgn val="ctr"/>
        <c:lblOffset val="100"/>
        <c:noMultiLvlLbl val="0"/>
      </c:catAx>
      <c:valAx>
        <c:axId val="17513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95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FAB-AAA2-4FD1-BF02-DE1ED6A3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BE4-15C8-49B3-9303-4825D87D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9EE-B8C7-401B-B2F6-45963D75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122-DF1A-4FE9-93C1-025C3A24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5F4-C923-46F7-966F-480242C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BFB-D811-4CF0-9202-040F80F1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4AD-139C-4D5F-B711-60C6EFA8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ED2-BF40-425E-A85E-EA812AC7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DF1-D842-426E-A528-4642A86C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30F-90C7-4CA8-85FE-F2728C4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C7A-5312-4E4E-8273-13A5861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190-0ECE-41D1-90CE-D7BEA226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1F442-C01E-4FA2-91CD-DB0F367E4D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