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14595"/>
        <c:axId val="85786811"/>
      </c:barChart>
      <c:catAx>
        <c:axId val="66114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86811"/>
        <c:crosses val="autoZero"/>
        <c:auto val="1"/>
        <c:lblAlgn val="ctr"/>
        <c:lblOffset val="100"/>
        <c:noMultiLvlLbl val="0"/>
      </c:catAx>
      <c:valAx>
        <c:axId val="85786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4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1DF-C0D5-46B5-A57A-5704A6E2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8D9-12AF-4FA8-A5E6-68915362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E22-F110-40AD-B626-7775B443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6E4-7890-44FD-8D9F-E2A62D65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5A9-FC2C-4562-BBBF-20056A7F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28C-D5FD-401A-A608-A7983C77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96C-BECC-4084-8FDB-3985C1BB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16D-45B7-4DC7-AF78-4D9C0A2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A00-A34A-4360-BDB7-E2E8110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CF6-936E-45F1-A5A9-16919D7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29E-DF2C-4218-B60C-0E45AC0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2ED-AD5B-43F3-919E-B735E85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87317-B1F4-4EE2-8939-B220EB751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