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87960"/>
        <c:axId val="95082145"/>
      </c:barChart>
      <c:catAx>
        <c:axId val="72287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82145"/>
        <c:crosses val="autoZero"/>
        <c:auto val="1"/>
        <c:lblAlgn val="ctr"/>
        <c:lblOffset val="100"/>
        <c:noMultiLvlLbl val="0"/>
      </c:catAx>
      <c:valAx>
        <c:axId val="95082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87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551-7484-429D-9C8D-1739ED50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466-48E9-4AB2-8C5D-F5FEB2C2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57E-2E3F-4ECD-8C3F-947CDC2E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BC5-DFDE-422F-95A9-DBDC3096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166-6A8E-4198-9816-988C278F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14A-D31A-4A0D-9B42-64FDDB45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2D9-F7B6-4151-A247-AD74150D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832-3528-4C3F-B89B-1E58EAFA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B12-C0A2-4153-AE77-E770A5E5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FCA-E7AA-4763-A507-A14AC55B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495-C0EE-4D77-B080-62DE9780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B2A-E08C-4202-AAAB-6C11E390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61366-C832-43A0-905E-01482B90BF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