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927932"/>
        <c:axId val="22653134"/>
      </c:barChart>
      <c:catAx>
        <c:axId val="139279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53134"/>
        <c:crosses val="autoZero"/>
        <c:auto val="1"/>
        <c:lblAlgn val="ctr"/>
        <c:lblOffset val="100"/>
        <c:noMultiLvlLbl val="0"/>
      </c:catAx>
      <c:valAx>
        <c:axId val="226531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279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11A-6286-4D55-8EE0-926021C7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8181-98E8-4506-B992-D1127D63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5F6-C227-49CE-A862-83E46DF7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E403-702A-4EC7-9BFE-51CA40CD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5673-1B5B-466B-88B0-1BD1BCF2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55DD-04D3-4742-B97B-62091345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24CA-68A9-4410-930A-1DA7440C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1C72-40B6-401C-BA67-74E79C01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DA65-7570-49F1-838C-76DFA1B5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F119-7C33-4057-88E0-6E12A5AC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F6E-AABE-4A50-BDBD-42DC5A42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8999-9AAC-4949-857F-56339040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D584C-34E2-47E8-A89D-2AC9924FF0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