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4454"/>
        <c:axId val="13923950"/>
      </c:barChart>
      <c:catAx>
        <c:axId val="2334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3950"/>
        <c:crosses val="autoZero"/>
        <c:auto val="1"/>
        <c:lblAlgn val="ctr"/>
        <c:lblOffset val="100"/>
        <c:noMultiLvlLbl val="0"/>
      </c:catAx>
      <c:valAx>
        <c:axId val="13923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DFC-BDD6-46D7-9133-0B0F66E4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A09-0B71-4D3A-BFA5-F0A3DFCF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1BC-AE6B-412D-8819-0C6FC4DA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F09-3016-49E4-B83C-513BF92E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128-8589-4102-98D2-9B9A38D2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C25-B7C3-4E20-A9EA-F52FDE3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7AC-00C7-4AA4-B856-5602E58A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ADE-65B9-404E-A83E-96927F69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064-080B-4256-96E5-A048877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3D3-41E7-419C-935B-A47813C2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527-2C23-47D7-A406-76D4F4BB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105-4D56-46A7-B9EC-D1BBD87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679E-EB33-4632-807F-87AF36A92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