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3098"/>
        <c:axId val="77929476"/>
      </c:barChart>
      <c:catAx>
        <c:axId val="8493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29476"/>
        <c:crosses val="autoZero"/>
        <c:auto val="1"/>
        <c:lblAlgn val="ctr"/>
        <c:lblOffset val="100"/>
        <c:noMultiLvlLbl val="0"/>
      </c:catAx>
      <c:valAx>
        <c:axId val="77929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3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7E3-7B6D-42B4-BF69-11B35986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367-1529-4A32-8655-D21D59E0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60D-ED50-4E2F-98CB-24E8B2CA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719-1FC2-4286-8878-675659C1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9C2-00A4-4BDE-AD60-C72A997C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C79-F639-4D34-B770-21BA5244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520-A565-426D-8F14-0E0F02DD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32B-0885-4991-A222-A9B18B7D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0A5-9819-465F-B9F4-CB115042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6B2-AAE1-48C5-A9E0-54724D9B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AB8-E77B-46C9-8BF9-CD99770A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D95-7296-419F-8BF0-D514845B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F1024-1E6E-4F3C-9398-EBA160D099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