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23281"/>
        <c:axId val="31184568"/>
      </c:barChart>
      <c:catAx>
        <c:axId val="73123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84568"/>
        <c:crosses val="autoZero"/>
        <c:auto val="1"/>
        <c:lblAlgn val="ctr"/>
        <c:lblOffset val="100"/>
        <c:noMultiLvlLbl val="0"/>
      </c:catAx>
      <c:valAx>
        <c:axId val="31184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23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3C1-551A-4AEC-8106-D17381DE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683-DD8C-4C10-8B60-F8621261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1B5-BD6E-4FA6-8BDD-EF0D40F5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A43-4734-480E-B852-E7D8CBF4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390-563D-4305-B093-5A53463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184-09FC-4224-BA33-CC10FA7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0A8-2D0B-4233-A279-917E8EA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198-0AAB-4742-BEA2-F26C8FE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6CB-5512-4F81-8B68-42108261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008-7F69-4BAD-B629-105EF4F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B24-DCCE-4A31-A3AE-809A6FA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8C-22F0-4B35-B7EC-AC9D160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5FC2C-BD9D-47B5-B18C-1E12B0149F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