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99353"/>
        <c:axId val="55053078"/>
      </c:barChart>
      <c:catAx>
        <c:axId val="93599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53078"/>
        <c:crosses val="autoZero"/>
        <c:auto val="1"/>
        <c:lblAlgn val="ctr"/>
        <c:lblOffset val="100"/>
        <c:noMultiLvlLbl val="0"/>
      </c:catAx>
      <c:valAx>
        <c:axId val="55053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99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9DF-1D18-48A2-AC2A-F9B381F7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2BC-7E23-4013-BA6D-CB2FE1B1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A2B-3D0B-4CA4-BE04-D7118CC3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8D4-5231-426E-BFC6-626A828C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1BD-579D-4816-821C-04BD98FB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DCA-967D-48B7-960A-E4499259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551-3B8E-4FED-9B32-2FB6E59E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6DB-9E9D-4DD5-A01A-0BF2C8B5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D7B-DC9C-48BE-BCC6-D56DCD38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A0B-57F4-48D6-AA19-37FBCD80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A75-CB41-4F0D-B411-A601538F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D7B-797C-4535-95AF-9F207EA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09D94-1899-43E5-9BFB-8D423D5E41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