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5011"/>
        <c:axId val="33129889"/>
      </c:barChart>
      <c:catAx>
        <c:axId val="6735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29889"/>
        <c:crosses val="autoZero"/>
        <c:auto val="1"/>
        <c:lblAlgn val="ctr"/>
        <c:lblOffset val="100"/>
        <c:noMultiLvlLbl val="0"/>
      </c:catAx>
      <c:valAx>
        <c:axId val="33129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F94-72A5-44C2-9AD4-D5672432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52B-65E0-43C0-BEE4-76CD1B7C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DDE-9603-4C94-BAA6-6DA3D5E2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ED0-E9A7-4D35-87D6-2769F6D5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6D3-607B-4FF8-A628-7DEBE733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292-32AA-45E8-B840-A7D0EE7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BAA-8810-43CD-B501-308D562F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B53-9597-44B0-9A2C-1602DE98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4DF-1056-408E-ACB5-44B3F3BD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C5A-31CB-4405-886B-901625E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038-617A-43D9-88B5-CED9871C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0CD-7106-405E-A90C-B50A7874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F51F2-9CA3-4002-936A-777BA7B46A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