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590725"/>
        <c:axId val="69723163"/>
      </c:barChart>
      <c:catAx>
        <c:axId val="2590725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9723163"/>
        <c:crosses val="autoZero"/>
        <c:auto val="1"/>
        <c:lblAlgn val="ctr"/>
        <c:lblOffset val="100"/>
        <c:noMultiLvlLbl val="0"/>
      </c:catAx>
      <c:valAx>
        <c:axId val="6972316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590725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0CDFD-499E-4D47-A6D5-12C6045DE8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5633D-944D-4EA5-BB60-EE1233B6A4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B04F5-27E8-4F11-A33F-56B56D89FE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7316F-3466-4719-884A-859BEACE7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B1080-438E-4C72-A43B-CFA15C5F2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C34666-AE9F-4A2E-9900-D8E7727930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6F477E-1391-49B6-9C5F-8D34F50805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15994-3F7C-46B0-8786-F28C35D291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7D880C-F4B3-4F00-BE5B-A0D638D31B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D9A72C-A99B-4229-928E-B1E3B479A4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AFDFE-108D-4612-AA85-7C9D72D013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834F5-09C0-45F1-A2C3-E3E59DA0FC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6D7B3BF-9E98-42F4-93E1-EB7D33288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