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27450"/>
        <c:axId val="61939953"/>
      </c:barChart>
      <c:catAx>
        <c:axId val="75227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39953"/>
        <c:crosses val="autoZero"/>
        <c:auto val="1"/>
        <c:lblAlgn val="ctr"/>
        <c:lblOffset val="100"/>
        <c:noMultiLvlLbl val="0"/>
      </c:catAx>
      <c:valAx>
        <c:axId val="61939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27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8CE-A644-44F5-8043-D5A8EAB2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283-2CFB-460A-AF59-1835194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FBB-6EF1-47F9-A826-BE0DDC92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DBD-BB11-43BC-A3CB-226848D3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5E7-E3D5-4AEB-A3CE-B96F12EB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70A-282D-473B-868B-A8277601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CF9-7B20-40E3-B00E-65F3C873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41D-5679-425D-95EA-588BF133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0F2-1BE3-467E-814B-BB83ED1F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1DE-5575-4ACD-8E9E-D96C988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60E-A50B-4B51-BAD8-76D9B5EB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273-32D8-4D18-9080-3121BC28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4C124-2971-48EF-BFB8-77E565E280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