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77321"/>
        <c:axId val="82001187"/>
      </c:barChart>
      <c:catAx>
        <c:axId val="70777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01187"/>
        <c:crosses val="autoZero"/>
        <c:auto val="1"/>
        <c:lblAlgn val="ctr"/>
        <c:lblOffset val="100"/>
        <c:noMultiLvlLbl val="0"/>
      </c:catAx>
      <c:valAx>
        <c:axId val="82001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77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942-80ED-4579-B4E5-A9B51B2F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B61-6977-4D62-BD8F-F11FC71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D19-E96C-4D98-B498-D4643BCF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A91-FF1F-4300-B495-B473799A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08C-9406-49DB-AC1F-3F708C1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273-20F1-45D2-A958-2F5265E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1AE-0396-4953-AF7F-38388640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C25-229A-40FE-B7B2-70DFE145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A34-3651-4EF1-824B-AAAE0229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E85-A5A0-4F12-B9A7-059B5291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E30-C822-4240-A032-D3844CA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EC6-7B7C-433F-8B31-285F8DEA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85404-AAFC-445B-8993-5203A65996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