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531367"/>
        <c:axId val="94729458"/>
      </c:barChart>
      <c:catAx>
        <c:axId val="995313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29458"/>
        <c:crosses val="autoZero"/>
        <c:auto val="1"/>
        <c:lblAlgn val="ctr"/>
        <c:lblOffset val="100"/>
        <c:noMultiLvlLbl val="0"/>
      </c:catAx>
      <c:valAx>
        <c:axId val="947294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313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92E8-7920-4833-8510-6FB2F8CB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EE9A-EE93-4812-81A1-3D17CA30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146A-EC4D-4F59-89B5-8B930AC5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42A1-D6F3-4C4F-BD64-B411C101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AE9B-6E3B-4D24-A7FE-8D940418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430E-0711-407D-88CE-06982493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50AC-B701-40CB-9FE3-2E41934E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D38-B39F-4558-95DC-B0B09BDC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CCA7-AF11-4118-9F66-FE14E550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EB74-2143-4787-BA09-D3BAC10B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B592-67BB-4FC5-B837-8B71C4BE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5B1-5278-435F-8D01-6A486FC1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A07D6-373C-4CEB-9577-4CBA93E05B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