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411988"/>
        <c:axId val="15134829"/>
      </c:barChart>
      <c:catAx>
        <c:axId val="754119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134829"/>
        <c:crosses val="autoZero"/>
        <c:auto val="1"/>
        <c:lblAlgn val="ctr"/>
        <c:lblOffset val="100"/>
        <c:noMultiLvlLbl val="0"/>
      </c:catAx>
      <c:valAx>
        <c:axId val="151348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4119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E308-FA82-4DEC-9F6A-E958723E7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1FAB-8AC0-4BBE-AD3A-8EE9205A7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4B81-2F26-4FF0-A262-D36E89532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28E5-192E-4B7A-A94D-173D57B30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81F8-FA51-47F6-A2D6-A91E22C44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9063-6486-43C9-B695-196F41FE1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574D-D95E-4410-8CF9-962780902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9111-E70A-43AA-B9D7-0F6C717A6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9734-D90F-4DC1-9987-5A0ED471A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4213-3B7D-4F71-950B-12662D7B6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3325-BB39-438A-B9C3-C6112AC8F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4BF5-83B9-472B-9808-37A729ED8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66AED9-E461-48E9-B376-E413B2C395B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