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53564"/>
        <c:axId val="81256640"/>
      </c:barChart>
      <c:catAx>
        <c:axId val="75853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56640"/>
        <c:crosses val="autoZero"/>
        <c:auto val="1"/>
        <c:lblAlgn val="ctr"/>
        <c:lblOffset val="100"/>
        <c:noMultiLvlLbl val="0"/>
      </c:catAx>
      <c:valAx>
        <c:axId val="81256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53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62F-8BC2-461F-A4BB-CAC58753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BE67-E4EC-4D9F-B579-FD7AD4A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86D-C735-49C0-A3BA-1880034A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4A2-8E4C-43CA-883A-8301447D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D2E-EF01-4077-91E5-7659C470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3D9-4156-4D63-BB72-C8149AC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513-43BE-4A77-8742-AA0A0F78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A85-F8B2-4BB5-A277-0809E950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6A9-9E1E-462F-A7A8-5CA45F1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484-EE84-4CC3-9965-5905F301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2E6-B324-4C53-A16C-3B16D8B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11E-7747-422C-9833-DAA4A65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67875-8ADE-471A-8C54-0EF70F8FF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