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10852"/>
        <c:axId val="19668439"/>
      </c:barChart>
      <c:catAx>
        <c:axId val="17710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68439"/>
        <c:crosses val="autoZero"/>
        <c:auto val="1"/>
        <c:lblAlgn val="ctr"/>
        <c:lblOffset val="100"/>
        <c:noMultiLvlLbl val="0"/>
      </c:catAx>
      <c:valAx>
        <c:axId val="19668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10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22B-E24B-47EF-8F47-C8C70E39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800-0B84-45D0-9C52-CAF98424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C27-97AA-4A34-838A-1327D2A2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FA6-787C-4690-B0B6-F19CBCB1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A1E-34EE-4F88-A073-27B2743C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F55-669A-428C-9E75-F5E4EC39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2A3-1E18-41AE-9652-E2AB19D0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2AF-FC8D-4D88-86BA-96F3E755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1D7-D153-47DB-8912-25996E2D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B51-F46D-4A06-BF9B-17419840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344-DD2C-4189-BEC7-7FFDB37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DAD-3797-4777-A33A-28FEB7AD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50084-BF02-4229-981A-C9E7AB8FF2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