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25560"/>
        <c:axId val="64254140"/>
      </c:barChart>
      <c:catAx>
        <c:axId val="53125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54140"/>
        <c:crosses val="autoZero"/>
        <c:auto val="1"/>
        <c:lblAlgn val="ctr"/>
        <c:lblOffset val="100"/>
        <c:noMultiLvlLbl val="0"/>
      </c:catAx>
      <c:valAx>
        <c:axId val="64254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25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548-7FE2-49EF-B87E-9137567C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E97-3483-4329-AE4E-A3109A6C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26A-E7CF-4247-8F89-90E3E24B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1B8-572E-4691-B92F-99AF54D7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8D3-6EEA-4513-BBD7-B306418E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FF9-EDCD-4488-BB57-B5AA1248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774-1FB7-45EE-A87D-31035BD2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723-EE2E-4E31-B1CC-BA41058D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E14-62C9-4962-BAD1-49B67EE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692-6D4C-4421-B1AE-61991F69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9AC-795B-42D0-9E60-D40C232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906-8CCC-4A95-84E5-94B59C2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38B45-42AD-4BBE-91BE-E44B8A2872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