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406676"/>
        <c:axId val="23944558"/>
      </c:barChart>
      <c:catAx>
        <c:axId val="624066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944558"/>
        <c:crosses val="autoZero"/>
        <c:auto val="1"/>
        <c:lblAlgn val="ctr"/>
        <c:lblOffset val="100"/>
        <c:noMultiLvlLbl val="0"/>
      </c:catAx>
      <c:valAx>
        <c:axId val="239445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066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0C4A-1716-4F00-AB8F-777942DFE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453C-D932-42E7-A8E2-8F4329F4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17EB-7203-44A7-B4F3-FBC1B826E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8C5F-932E-426E-A73D-4C1ACF465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0DAE-4393-4ECA-8A5C-C747F924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D58D-074C-485C-8713-5D55F9EC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C16B-5998-4A89-9B78-D88A13D0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6569-43BE-4A79-BFFB-DEA9AD82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D4D0-0149-4A75-9783-E0571CA2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14D4-7379-45A6-BD4D-C16CD52E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C07B-3C51-4F92-8498-AC3B9AAA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5E24-2827-466B-9BE2-A287E331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B8AEB-1033-4FA3-A939-AC1EB0066A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