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16693"/>
        <c:axId val="57230430"/>
      </c:barChart>
      <c:catAx>
        <c:axId val="65916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30430"/>
        <c:crosses val="autoZero"/>
        <c:auto val="1"/>
        <c:lblAlgn val="ctr"/>
        <c:lblOffset val="100"/>
        <c:noMultiLvlLbl val="0"/>
      </c:catAx>
      <c:valAx>
        <c:axId val="57230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16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DB7-98FA-4A3F-8720-94CB5B8B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0CD-AC9E-430A-9ADC-04D51CB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9E6-F0D0-454C-B119-7DE69E0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B22-E47D-4FD2-9598-E319EED5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799-6D8D-4FA9-98A6-D63B367E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17B-02F8-4E16-98EB-92DEC958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FF0-009D-4CF6-ADAF-51B35421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D9B-5F37-4733-8259-4AFBF1F9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C06-EF25-4698-BA48-E37BA8BE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85F-B214-4DAA-BCA8-B8D1D30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646-107A-4287-B7C2-A4EE41C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C5B-DCCE-4AA4-B3CD-B76F93B3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ADEB0-F97C-498F-A185-91F9832618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