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74689"/>
        <c:axId val="31021426"/>
      </c:barChart>
      <c:catAx>
        <c:axId val="19974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1426"/>
        <c:crosses val="autoZero"/>
        <c:auto val="1"/>
        <c:lblAlgn val="ctr"/>
        <c:lblOffset val="100"/>
        <c:noMultiLvlLbl val="0"/>
      </c:catAx>
      <c:valAx>
        <c:axId val="31021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74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8C0-1E8C-4309-B2A6-AD961958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9AD-110D-4DB5-9507-084510B2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DDA-44FB-4969-9B3A-ACA8A0F9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F289-1D8E-455A-977F-95517C5D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CB8-9FDC-40D4-A10B-97F49C2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0C4-8E29-4176-9313-502A5E24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ACA-C9D5-4377-B371-C0880E28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F51-B0D5-45D5-9761-455D234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9A9-A648-42CB-9C5A-ED521C04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85A-EE79-4782-8169-BAD87538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B151-F752-47C2-AF82-02A5366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9B2-7C64-4467-AF4C-1D4FC32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1CD54-BCD3-445E-8757-18910FC200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