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17297"/>
        <c:axId val="9911712"/>
      </c:barChart>
      <c:catAx>
        <c:axId val="85517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1712"/>
        <c:crosses val="autoZero"/>
        <c:auto val="1"/>
        <c:lblAlgn val="ctr"/>
        <c:lblOffset val="100"/>
        <c:noMultiLvlLbl val="0"/>
      </c:catAx>
      <c:valAx>
        <c:axId val="9911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17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50C-CA05-45B7-BBBC-0AC7A6D1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493-AC45-4F55-9EF5-3B54539F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2C4-B534-43DA-A4B6-6BD46441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25A-7C5B-4A33-A6B0-8AD9AA23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862-8AFB-4A8B-8B58-0233FD99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D35-3354-4DCD-B012-F6163DB6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AC6-FF9E-4260-BD91-0A239A74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E45-94E3-4AB3-90A7-F340E0BB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79B-51F8-49D9-90F1-3A2AE1E7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B59-EB74-45F3-B337-D3EE59A1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539-DC01-4A9D-B341-4627D81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1A9-CAFC-4A1B-A738-2C317DA0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96253-85DA-4730-8199-C38993BCD5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