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78343"/>
        <c:axId val="81293278"/>
      </c:barChart>
      <c:catAx>
        <c:axId val="27878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93278"/>
        <c:crosses val="autoZero"/>
        <c:auto val="1"/>
        <c:lblAlgn val="ctr"/>
        <c:lblOffset val="100"/>
        <c:noMultiLvlLbl val="0"/>
      </c:catAx>
      <c:valAx>
        <c:axId val="81293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8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5AE-3C58-46EF-B9B1-64D952B1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A61-4CE5-4AA0-8F40-394C3A31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9A0-46AC-40F7-A061-D05D69F7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F5D-159D-4F11-820D-5DE38650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A12-B1CE-401C-A860-3CA70CEF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E80-795E-44DF-B4D9-D176053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9D3-5722-44CA-9BCC-21B3017C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95E-6AEA-434A-BD64-13D573A2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43C-3C99-44EA-AC50-9A190DE6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DFE-C975-45C3-8C72-7E498732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CCC-0000-451C-A98F-348BEB2D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84A-FAD5-4F83-A564-7751470B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4137A-2992-4693-A78D-0A0BA553A3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