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727206"/>
        <c:axId val="43798443"/>
      </c:barChart>
      <c:catAx>
        <c:axId val="287272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798443"/>
        <c:crosses val="autoZero"/>
        <c:auto val="1"/>
        <c:lblAlgn val="ctr"/>
        <c:lblOffset val="100"/>
        <c:noMultiLvlLbl val="0"/>
      </c:catAx>
      <c:valAx>
        <c:axId val="437984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7272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9172-48FD-458E-B04F-337FA0394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1722-04F0-470C-86EA-E255DE2F4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D2CE-2E41-47A4-AED2-7CB7B1B7A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1D4E-78BF-49CD-BBB1-816789E6C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D330-04BA-4FA5-A38B-C3076AE87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1517-380D-4808-A193-35939EB95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83A9-B117-4767-BA33-F36B7A601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F1A6-620B-4FB0-9BC9-6E7BF763D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406D-5524-4E6E-BBBA-BFFBA2922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AEB4-AF80-4DD4-A13A-14A805254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A959-F9B5-47DD-8A2F-4A5729248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B94C-7A75-45AB-8F1E-027A9AB0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F481E2-74F1-4C36-AE2F-1C9B01C7A7A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