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6042"/>
        <c:axId val="66059586"/>
      </c:barChart>
      <c:catAx>
        <c:axId val="4011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59586"/>
        <c:crosses val="autoZero"/>
        <c:auto val="1"/>
        <c:lblAlgn val="ctr"/>
        <c:lblOffset val="100"/>
        <c:noMultiLvlLbl val="0"/>
      </c:catAx>
      <c:valAx>
        <c:axId val="66059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3D0-17FC-4716-AC27-C6B16E28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A5D-89CA-467C-B46E-83197557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D85-8DEC-4234-9D7F-807472CF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E00-559E-4206-B1FF-2F937458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8A9-FBD7-4325-8CCF-0F3E6944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379-186C-4A48-8FDA-6EC3F59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522-5112-4AE2-9A04-12ADF68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E8F-E3C7-42A4-9146-2392637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6B2-5909-476C-B745-361DFAF7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3D3-4874-451D-9756-E7D6943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6A1-E456-4FB1-A357-0F10DC3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3A7-3EC8-4E29-B159-7A728F3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5EF69-D6CB-41B3-8BBA-4E86AEF20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