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72"/>
        <c:axId val="5937631"/>
      </c:barChart>
      <c:catAx>
        <c:axId val="58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7631"/>
        <c:crosses val="autoZero"/>
        <c:auto val="1"/>
        <c:lblAlgn val="ctr"/>
        <c:lblOffset val="100"/>
        <c:noMultiLvlLbl val="0"/>
      </c:catAx>
      <c:valAx>
        <c:axId val="5937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4C7-C6EF-4A9A-9CC2-95100C41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338-8A00-4403-9C24-7DF0A1EE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0BA-297F-44A3-B925-A04C3D1B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40C-353E-46E9-A6BC-F06C3C08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19E-4FE1-47BB-9242-8A1E2BC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859-9042-456A-86DB-B1232D14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61D-E55B-4FEA-A045-84A9921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CCC-92E9-446B-B789-9FD7089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3B5-5238-4D9C-8BAB-0B05E20B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8D1-2B7C-4322-8F6B-19709A4A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B6F-95A0-4D03-85A8-DAEDEBFA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744-C3DE-4372-AD9F-2516E5B2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A9D9F-12EA-407D-907D-C7A3D6F6EE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