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325770"/>
        <c:axId val="81611570"/>
      </c:barChart>
      <c:catAx>
        <c:axId val="163257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611570"/>
        <c:crosses val="autoZero"/>
        <c:auto val="1"/>
        <c:lblAlgn val="ctr"/>
        <c:lblOffset val="100"/>
        <c:noMultiLvlLbl val="0"/>
      </c:catAx>
      <c:valAx>
        <c:axId val="816115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3257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0A90-4DAF-417B-96FF-08E71B6E6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034D-5612-4180-8E58-C88C2BA06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6CDE-A1D5-42DD-BF2B-1107AD7B6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8309-F728-4642-BAE2-CCA704BD2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6A41-0B88-4EEF-AD59-2A06C8E29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2E20-FCB3-422E-B963-322CDB24B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558A-B698-4CD1-800D-003E88B1B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027D-C079-4523-B1BF-43B59B823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CACE-F5CB-4819-B301-8F37A5026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62A1-6451-490F-A69B-B7189621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0CB0-1349-4DED-A672-19AAA8E7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6EC0-D000-4DC1-A57C-F915306E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303ECE-9D9F-4899-98EB-95F0C643972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