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09700"/>
        <c:axId val="77778588"/>
      </c:barChart>
      <c:catAx>
        <c:axId val="58809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78588"/>
        <c:crosses val="autoZero"/>
        <c:auto val="1"/>
        <c:lblAlgn val="ctr"/>
        <c:lblOffset val="100"/>
        <c:noMultiLvlLbl val="0"/>
      </c:catAx>
      <c:valAx>
        <c:axId val="77778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09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792-25F4-4F68-A422-06CC3BF8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FBA-11B0-4E0A-A018-2145AE31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B69-C25A-4826-B3EC-E3B6D32C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4EC-9FB6-4DE9-B626-668E1820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78D-31CC-471B-B049-288F946F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ADA-379F-4B01-9531-814195E8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E8A-C63E-4AE5-9175-1D02002F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CDD-4065-40DC-A846-E8F0237C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027-7272-452C-B73C-F4CB0A15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869-01C0-442A-85A0-51B4ADD1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826-FC01-4548-A871-A1C92C68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73C-D47A-4DC5-84FE-C7F909F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90CA5-15AD-49E3-A210-DEE114D86C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