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25541"/>
        <c:axId val="53974253"/>
      </c:barChart>
      <c:catAx>
        <c:axId val="18325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74253"/>
        <c:crosses val="autoZero"/>
        <c:auto val="1"/>
        <c:lblAlgn val="ctr"/>
        <c:lblOffset val="100"/>
        <c:noMultiLvlLbl val="0"/>
      </c:catAx>
      <c:valAx>
        <c:axId val="539742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25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361D-C9FA-4078-97E4-14A3C982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FCD-F73D-44BC-87EA-C92BA7E1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1FD-7C6D-4103-BE62-549CE1A6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C2C-3A2E-4355-8CFD-E9F5C738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0C14-950D-40F2-9738-D5BF30F3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C89-9E0B-4813-BA56-8109B760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5DE4-88AA-44BC-B410-B2164BDE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844-868B-4102-A4A2-7D8D8C1E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6A8-C459-4A62-8E76-C97944A7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1CAC-57D6-4BE5-A05D-0433F8BB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DD7-B352-4EFD-9915-3AD16B44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2CD-03D6-4EA6-B449-5BE166A3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E67BA-EB12-460F-9B4C-DA5220E626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