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46027"/>
        <c:axId val="44767154"/>
      </c:barChart>
      <c:catAx>
        <c:axId val="11046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67154"/>
        <c:crosses val="autoZero"/>
        <c:auto val="1"/>
        <c:lblAlgn val="ctr"/>
        <c:lblOffset val="100"/>
        <c:noMultiLvlLbl val="0"/>
      </c:catAx>
      <c:valAx>
        <c:axId val="44767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46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603-B851-45FD-9E2A-6BEEB4F8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588-C475-4132-94EF-AFB82C1C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238-8DC5-4808-9366-A416F84F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3FA1-8AF3-4C63-9A32-AB1EA75B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1E6-B27C-4ED1-984C-2F6D2564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A48-8F7F-41F8-B950-1AF8ADD7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E570-8CF5-4139-83B3-F0E23A41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ED8-B394-4CF1-B8B5-2482D1E1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2759-D337-489F-BC9D-25E2062E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0B4-708A-4951-9A13-AB75C85E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9EB-10F1-48CE-8AD9-2E9464F7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50D-8BA7-4422-887A-2F53F1CA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0363A-7BD4-41D7-8185-43D31E66A3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