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44461"/>
        <c:axId val="67960006"/>
      </c:barChart>
      <c:catAx>
        <c:axId val="215444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60006"/>
        <c:crosses val="autoZero"/>
        <c:auto val="1"/>
        <c:lblAlgn val="ctr"/>
        <c:lblOffset val="100"/>
        <c:noMultiLvlLbl val="0"/>
      </c:catAx>
      <c:valAx>
        <c:axId val="679600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444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F7C-0F32-4249-AC15-7E7E6C3C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27D-7F4D-4AA0-9725-AB06323C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BB9-752F-4ACB-A436-6DBB34CD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29F-1707-4F08-A603-8DE7228B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F5E-2FB0-45A3-9D0C-80F6444F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D16-6F9E-485E-B5D2-7C8F8653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729-4C47-445F-9B8D-190E5FB4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A25-FA37-48FB-AE2B-ABBD4EF0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6E5-E87C-45D4-BBA8-977E950C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00A-FBD9-422C-B2C1-29D71FFD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9E3-1B49-4563-8CE7-21554982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E9C-28C2-41D6-9058-E3F5CB7B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DFCEC-702A-47AD-9EAD-171289DA3D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