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997330"/>
        <c:axId val="76690769"/>
      </c:barChart>
      <c:catAx>
        <c:axId val="71997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90769"/>
        <c:crosses val="autoZero"/>
        <c:auto val="1"/>
        <c:lblAlgn val="ctr"/>
        <c:lblOffset val="100"/>
        <c:noMultiLvlLbl val="0"/>
      </c:catAx>
      <c:valAx>
        <c:axId val="766907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97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CEA6-B12E-4EE9-AB43-709B07E0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7CAD-ED2B-4217-A3CB-C5FC28CE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FDEC-0537-4D09-8FC2-CADC64E1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962D-1F0F-46FC-A415-4721D364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0619-F51C-4BCD-9950-202BB0D6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EF7E-C4E5-4863-BB31-B73BF386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C169-B7DB-4549-8475-CDF08D75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717C-43FD-4C6D-AD52-0BD4ADA2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EE61-A6AE-409B-A08F-2B385A03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AAAE-407B-4A1C-83AB-D52B2EAC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32F6-9477-49AC-83B1-6F26FCAB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F7A4-CB97-42B1-8DED-02F2B578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D3A19-0731-4A35-9D27-14D4F2EBB3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