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71165"/>
        <c:axId val="18531838"/>
      </c:barChart>
      <c:catAx>
        <c:axId val="18071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31838"/>
        <c:crosses val="autoZero"/>
        <c:auto val="1"/>
        <c:lblAlgn val="ctr"/>
        <c:lblOffset val="100"/>
        <c:noMultiLvlLbl val="0"/>
      </c:catAx>
      <c:valAx>
        <c:axId val="18531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71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5EE-7F5A-4337-B5FA-94E41C4C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4B1-E1C1-40A3-9133-117FA6A4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E23-6F09-4BF2-8E7E-75B98377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F93-BCDC-4794-834D-C467A217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080-7E23-4FDD-9007-8422A90F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ACC-DC49-4D95-86AA-214D6EB4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F95-8D84-4F3A-98CD-ADF7C7E6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FE3-2C79-4B6E-B620-7ECB3489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4E5-08A7-49A1-9045-2B4E9BCD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D11-CBD5-4E2D-938E-80AA28F7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F9A-923E-480F-A992-F594A15E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9FB-410B-41ED-89EC-534CCCBA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20003-7A5F-4BB0-A5D2-DDF36E9328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