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18023"/>
        <c:axId val="94265164"/>
      </c:barChart>
      <c:catAx>
        <c:axId val="77018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65164"/>
        <c:crosses val="autoZero"/>
        <c:auto val="1"/>
        <c:lblAlgn val="ctr"/>
        <c:lblOffset val="100"/>
        <c:noMultiLvlLbl val="0"/>
      </c:catAx>
      <c:valAx>
        <c:axId val="942651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18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0E5-C55E-4C98-8617-66523E6D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DF6-1069-47B7-903B-2AE910A9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4191-583F-43BF-AA97-566B635C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699B-C42B-408B-87C0-93180854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6F0-F263-400D-A9CD-C5916AF0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8EB-3F38-4855-B637-A2963E6F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4DC-B7D8-4A5E-8027-FBEBE91C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F7F5-36FD-48A1-B372-11970B1F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BC5-1A9B-4823-A82E-63D2FF41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340-2943-4596-9ADB-422BAD36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928-947D-4549-B152-9EB6C76C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C2B-8355-4343-B5B0-6475F90A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17D79-E6FE-434B-8086-F2F2ED8308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