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52198"/>
        <c:axId val="53710555"/>
      </c:barChart>
      <c:catAx>
        <c:axId val="35952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10555"/>
        <c:crosses val="autoZero"/>
        <c:auto val="1"/>
        <c:lblAlgn val="ctr"/>
        <c:lblOffset val="100"/>
        <c:noMultiLvlLbl val="0"/>
      </c:catAx>
      <c:valAx>
        <c:axId val="53710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2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8DE-035F-447B-85FF-5982A81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135-3982-416F-B6C6-AAF95D7A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1C0-13A0-4D22-B974-8ECA03D3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E6F-8FA5-4093-A446-722FC426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55A-DF10-44A4-89A5-DADFE4B2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88C-4718-4152-BCE2-395D9F7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3A4-E61A-4CF0-9F98-8C0D23BC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CAD-F5EA-4C3F-9D52-05CA008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245-5F79-4428-B28E-568E6754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4BE-EE06-424F-8AB3-685C95A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F8C-B98A-4456-B051-387240E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6B6-9DDD-48BF-85BD-8DA034B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05AF0-E137-429F-A62E-E12C696BB4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